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7024-7CB0-4457-91B1-1BC8D34D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8795-B111-4F95-B1CC-A55D2297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F109-3616-40F5-859E-450B7193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CFA-A917-4FC8-A046-F7A8FB8C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FBFE-5D59-4986-9E68-E6851456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178-55D5-4867-9F4B-ACB8F2AF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9607-5F73-473C-8151-7B89C823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D0F9-3D87-4012-817F-E5FFFA3C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C187-FD14-432B-AF78-870F9278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D803-5169-43A3-8F5E-D51A530E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B365-84E8-48EE-B872-C6DFC886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4A36-1BD1-4731-9879-22FB8571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3493-4481-48FC-9303-74B18F35B2F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322960"/>
            <a:ext cx="4427640" cy="153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????Boutros Rokaa"/>
              </a:rPr>
              <a:t>توبوا إلى الر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312408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وبوا إلـى الربِّ إنّ الـملكوتَ ق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331164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ودوا إلى الحبِّ فالخارجُ عنه غ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333360"/>
            <a:ext cx="5105520" cy="833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َبْ من حنانِك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طرةً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تحوّلُ القفرُ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عود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5562720" cy="1053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و أعطي عي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دمعة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في حوضه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طفلاً أعود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312408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وبوا إلـى الربِّ إنّ الـملكوتَ ق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31164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ودوا إلى الحبِّ فالخارجُ عنه غ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343400" y="0"/>
            <a:ext cx="4800600" cy="1053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ن عمقِ آثام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دَعوْ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َنصِت إلـى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صوتِ دُعا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1916280"/>
            <a:ext cx="5076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نا غيرَ وجهِ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ما رجَوْت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ملقاه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مأدبةُ رجا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312408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وبوا إلـى الربِّ إنّ الـملكوتَ ق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331164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ودوا إلى الحبِّ فالخارجُ عنه غ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708360" y="1916280"/>
            <a:ext cx="53341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وإذا استبدّ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بيَ الخجَل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و أبكمَ العارُ فم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95640" y="0"/>
            <a:ext cx="5148360" cy="1033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نبضاتُ حُبِّكَ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فَلْتزَل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حتّى النهايةِ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في دم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312408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وبوا إلـى الربِّ إنّ الـملكوتَ ق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331164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ودوا إلى الحبِّ فالخارجُ عنه غ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8:12Z</dcterms:created>
  <dc:creator>Charbel Azar</dc:creator>
  <dc:description/>
  <dc:language>en-US</dc:language>
  <cp:lastModifiedBy>-</cp:lastModifiedBy>
  <dcterms:modified xsi:type="dcterms:W3CDTF">2003-01-05T19:58:21Z</dcterms:modified>
  <cp:revision>5</cp:revision>
  <dc:subject/>
  <dc:title>PowerPoint Presentation</dc:title>
</cp:coreProperties>
</file>